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411-6567-421C-BFFC-EB705E10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AFE-8786-4B6C-890F-18816269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FDB-A877-430E-90A7-BD012E2F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71B-482A-4367-B191-0F6244A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451-09D6-4EFD-987D-1E31C54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68C-4300-4872-AF02-AA2931E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F83-F154-4954-ACC6-977D926A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047-BBAA-4E9A-A975-C0F68B03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A82-5D60-47FF-9A9A-A4A53595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5C-45AD-4C6B-82E7-FE2D1F8A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AD2-ED1B-4E93-8702-FA26B8B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DB6-1DC2-4B03-A83F-5B13B40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5B85-FAB6-4697-BA73-82A3E307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’ve been, where we are and where we are go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rmation go to the history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line f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of study is NOT a dirt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ahead of other curriculum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LEADERS and we want to stay that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??? Program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and refreshing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a job it’s a career choice for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with designing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will be alone-- schools will be united from district to distr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nforcing other models being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s what is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YOUR community need? Find out… advisory committ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abilit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wareness of other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amp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33:55Z</dcterms:created>
  <dc:creator>Kelley Ritter User</dc:creator>
  <dc:description/>
  <dc:language>en-US</dc:language>
  <cp:lastModifiedBy>Kelley Ritter User</cp:lastModifiedBy>
  <dcterms:modified xsi:type="dcterms:W3CDTF">2008-04-14T19:54:59Z</dcterms:modified>
  <cp:revision>1</cp:revision>
  <dc:subject/>
  <dc:title>The Big Picture</dc:title>
</cp:coreProperties>
</file>